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E6FC-55F3-48F6-B0B1-B4A3ACE15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9746-2485-4384-A57F-7166E7355D95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1449-E8C4-457D-A0A3-0B11399CDA49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D23E-7391-4A3C-BF6A-E5F9DDD8492A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Cilj je da pretoči znanje u akciju....sastoji se od mreže znanja koju čine naučnici i zdravstveni radnici sa zadatkom da sakupljalju dokaze radi formulisanja i sprovođenja javnozdravstvenih politika...postoje mnoge teme za koje se sakupljalju dokazi kao što su: zdravlje žena, zdravlje i razvoj dece, globalizacija, zdravstveni sistemi, soc isključenost i dru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0D47-9B2B-4F83-A127-6A08CE440BA7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0E12-7E60-40D6-B837-59A9C185ADC9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4991-EBCC-439F-ADC9-8BDD100730DF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BC23-15DD-4505-9EFE-E6DD03476249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B03C-E75C-42D6-A445-DB5F5655F43C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B325-75BF-4DE8-A131-96F478D6CD13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0D42-E0D7-4FCC-AE0D-8EF3E655377B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84E7-86A2-4FAA-B4CE-C3CC73DF1B0C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D399-4986-4901-BF14-AEF6CEC2A663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9240" y="67644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93520" y="4358880"/>
            <a:ext cx="5059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B8C3-39A1-4451-87B3-D8AD01AFBC24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9240" y="67644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93520" y="4358880"/>
            <a:ext cx="5059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51C6-91B2-4BA4-859C-DEE4A23C5E24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9240" y="67644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93520" y="4358880"/>
            <a:ext cx="5059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9BAD-AA8F-4D76-B59C-ECF70639B8C1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F9E3-898B-4F0F-9B5C-08AFA961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D93-D1FB-46D7-9A09-23CC5989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89F-B3C9-456C-9943-392FE901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DBE-951C-4700-AC38-FFBACB81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5C47-2D67-4A35-85FD-2BA8DC98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9030-352E-4AE4-9F6E-45F7E48F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6A32-3A46-4D12-9411-80B946C0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09EB-4FD5-41DB-B95B-70102C9E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7EC0-57F3-47BD-8330-E9A4CA68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1B7A-4B53-4D20-85F5-428FD310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7799-87C0-47D3-A5AD-57C3017B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E96-3004-432B-9F7F-29E92DF3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2249-0068-41FE-9181-C95CAE9A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85AC-E325-42F2-A9B5-07193190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316D-E618-43AD-B954-BB999987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6E7D-CF76-426C-A1B7-1C4AE8FF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9164-C2EF-42F9-A210-6A7A11D5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799-6F4A-43FA-B7B8-6800008D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009-CDF7-43A4-9C54-F5917EE2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208-D6CA-4BBA-B0A3-31BD9CDE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BC3-8F47-46D2-88DA-ED0E7711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38E-3E34-49AB-83E5-334E19AC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DAA-5E8E-4677-9BBB-F0D21A88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5F30-4995-4D4F-A8F0-CF5B2A33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3BC2-4133-46B0-AC29-9344B6758F6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2a3d7a"/>
                </a:solidFill>
                <a:latin typeface="Comic Sans MS"/>
              </a:rPr>
              <a:t>Економске неједнакости и здравље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826920" y="1125360"/>
            <a:ext cx="80773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Врсте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неједнакости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здравствено</a:t>
            </a:r>
            <a:r>
              <a:rPr b="1" lang="sr-Latn-C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стањ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задовољство</a:t>
            </a:r>
            <a:r>
              <a:rPr b="1" lang="sr-Latn-CS" sz="28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садашњим</a:t>
            </a:r>
            <a:r>
              <a:rPr b="1" lang="sr-Latn-CS" sz="28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животом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приступачност</a:t>
            </a:r>
            <a:r>
              <a:rPr b="1" lang="sr-Latn-CS" sz="28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здравственој</a:t>
            </a:r>
            <a:r>
              <a:rPr b="1" lang="sr-Latn-CS" sz="28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служб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коришћење</a:t>
            </a:r>
            <a:r>
              <a:rPr b="1" lang="sr-Latn-C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здравствене</a:t>
            </a:r>
            <a:r>
              <a:rPr b="1" lang="sr-Latn-C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служб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задовољство</a:t>
            </a:r>
            <a:r>
              <a:rPr b="1" lang="sr-Latn-CS" sz="28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здравственим</a:t>
            </a:r>
            <a:r>
              <a:rPr b="1" lang="sr-Latn-CS" sz="28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услугам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плаћање</a:t>
            </a:r>
            <a:r>
              <a:rPr b="1" lang="sr-Latn-CS" sz="28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из</a:t>
            </a:r>
            <a:r>
              <a:rPr b="1" lang="sr-Latn-CS" sz="28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сопственог</a:t>
            </a:r>
            <a:r>
              <a:rPr b="1" lang="sr-Latn-CS" sz="28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џепа</a:t>
            </a:r>
            <a:r>
              <a:rPr b="1" lang="sr-Latn-CS" sz="28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за</a:t>
            </a:r>
            <a:r>
              <a:rPr b="1" lang="sr-Latn-CS" sz="28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здравствене</a:t>
            </a:r>
            <a:r>
              <a:rPr b="1" lang="sr-Latn-CS" sz="28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услуг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826920" y="1125360"/>
            <a:ext cx="756144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Учесталост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јављања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неједнакости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у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здрављу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Неједнакости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здрављ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с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св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већ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већ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како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унутар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тако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измеђ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земаљ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упркос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глобалном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богатств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технолошком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напретк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Очекивано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трајањ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живот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н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рођењ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варир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измеђ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земаљ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од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34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годин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колико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износи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Сијер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Леоне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до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81,9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годин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Јапан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124000" y="558972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Зашто</a:t>
            </a:r>
            <a:r>
              <a:rPr b="1" lang="sr-Latn-C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су</a:t>
            </a:r>
            <a:r>
              <a:rPr b="1" lang="sr-Latn-C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неједнакости</a:t>
            </a:r>
            <a:r>
              <a:rPr b="1" lang="sr-Latn-C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здрављу</a:t>
            </a:r>
            <a:r>
              <a:rPr b="1" lang="sr-Latn-C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свуда</a:t>
            </a:r>
            <a:r>
              <a:rPr b="1" lang="sr-Latn-C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присутне</a:t>
            </a:r>
            <a:r>
              <a:rPr b="1" lang="sr-Latn-C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око</a:t>
            </a:r>
            <a:r>
              <a:rPr b="1" lang="sr-Latn-C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нас</a:t>
            </a:r>
            <a:r>
              <a:rPr b="1" lang="sr-Latn-CS" sz="24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826920" y="1125360"/>
            <a:ext cx="807732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Утицај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социјално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економских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одредница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здравља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на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неједнакости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у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здрављ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-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иск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римањ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езапосленост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едостатак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образовањ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допринос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ограниченој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приступач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ост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ижем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тепен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коришћењ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лошијем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квалитет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дравствен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аштит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(СЗ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, 2006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- с</a:t>
            </a: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оцијално рањиве особе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мај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мањ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риступ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дравственим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услугам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болесниј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умир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раниј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ег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особ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ривилегованијег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оцијалног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татус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(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р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w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н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ет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ал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., 2006)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95280" y="18252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Утицај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социјалних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разлика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на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здравље</a:t>
            </a:r>
            <a:r>
              <a:rPr b="1" lang="sr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(пример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Титаника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Picture 4" descr="ScreenHunter_001"/>
          <p:cNvPicPr/>
          <p:nvPr/>
        </p:nvPicPr>
        <p:blipFill>
          <a:blip r:embed="rId1"/>
          <a:stretch/>
        </p:blipFill>
        <p:spPr>
          <a:xfrm>
            <a:off x="468360" y="1989000"/>
            <a:ext cx="7920000" cy="4869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804000" y="6621480"/>
            <a:ext cx="2590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3d7a"/>
                </a:solidFill>
                <a:latin typeface="Comic Sans MS"/>
              </a:rPr>
              <a:t>Извор</a:t>
            </a:r>
            <a:r>
              <a:rPr b="1" lang="sr-Latn-CS" sz="1000" spc="-1" strike="noStrike">
                <a:solidFill>
                  <a:srgbClr val="2a3d7a"/>
                </a:solidFill>
                <a:latin typeface="Comic Sans MS"/>
              </a:rPr>
              <a:t>: </a:t>
            </a:r>
            <a:r>
              <a:rPr b="1" lang="en-US" sz="1000" spc="-1" strike="noStrike">
                <a:solidFill>
                  <a:srgbClr val="2a3d7a"/>
                </a:solidFill>
                <a:latin typeface="Comic Sans MS"/>
              </a:rPr>
              <a:t>Броом</a:t>
            </a:r>
            <a:r>
              <a:rPr b="1" lang="sr-Latn-CS" sz="1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1000" spc="-1" strike="noStrike">
                <a:solidFill>
                  <a:srgbClr val="2a3d7a"/>
                </a:solidFill>
                <a:latin typeface="Comic Sans MS"/>
              </a:rPr>
              <a:t>Л</a:t>
            </a:r>
            <a:r>
              <a:rPr b="1" lang="sr-Latn-CS" sz="10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1000" spc="-1" strike="noStrike">
                <a:solidFill>
                  <a:srgbClr val="2a3d7a"/>
                </a:solidFill>
                <a:latin typeface="Comic Sans MS"/>
              </a:rPr>
              <a:t>Селзницк</a:t>
            </a:r>
            <a:r>
              <a:rPr b="1" lang="sr-Latn-CS" sz="1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1000" spc="-1" strike="noStrike">
                <a:solidFill>
                  <a:srgbClr val="2a3d7a"/>
                </a:solidFill>
                <a:latin typeface="Comic Sans MS"/>
              </a:rPr>
              <a:t>П</a:t>
            </a:r>
            <a:r>
              <a:rPr b="1" lang="sr-Latn-CS" sz="1000" spc="-1" strike="noStrike">
                <a:solidFill>
                  <a:srgbClr val="2a3d7a"/>
                </a:solidFill>
                <a:latin typeface="Comic Sans MS"/>
              </a:rPr>
              <a:t>, 1968</a:t>
            </a:r>
            <a:r>
              <a:rPr b="0" lang="sr-Latn-CS" sz="10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468360" y="907920"/>
            <a:ext cx="867564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Примери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истраживања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социјално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економских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неједнакости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у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здрављ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С</a:t>
            </a:r>
            <a:r>
              <a:rPr b="1" lang="sr-CS" sz="2000" spc="-1" strike="noStrike">
                <a:solidFill>
                  <a:srgbClr val="2a3d7a"/>
                </a:solidFill>
                <a:latin typeface="Comic Sans MS"/>
              </a:rPr>
              <a:t>оцијално-економск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е</a:t>
            </a:r>
            <a:r>
              <a:rPr b="1" lang="sr-CS" sz="2000" spc="-1" strike="noStrike">
                <a:solidFill>
                  <a:srgbClr val="2a3d7a"/>
                </a:solidFill>
                <a:latin typeface="Comic Sans MS"/>
              </a:rPr>
              <a:t> одредниц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е</a:t>
            </a:r>
            <a:r>
              <a:rPr b="1" lang="sr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имај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2a3d7a"/>
                </a:solidFill>
                <a:latin typeface="Comic Sans MS"/>
              </a:rPr>
              <a:t>посебан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sr-CS" sz="2000" spc="-1" strike="noStrike">
                <a:solidFill>
                  <a:srgbClr val="2a3d7a"/>
                </a:solidFill>
                <a:latin typeface="Comic Sans MS"/>
              </a:rPr>
              <a:t>значај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на</a:t>
            </a:r>
            <a:r>
              <a:rPr b="1" lang="sr-CS" sz="2000" spc="-1" strike="noStrike">
                <a:solidFill>
                  <a:srgbClr val="2a3d7a"/>
                </a:solidFill>
                <a:latin typeface="Comic Sans MS"/>
              </a:rPr>
              <a:t> здравље људи 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(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Чедвиков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извештај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, 1842)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5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П</a:t>
            </a:r>
            <a:r>
              <a:rPr b="1" lang="sr-CS" sz="2000" spc="-1" strike="noStrike">
                <a:solidFill>
                  <a:srgbClr val="2a3d7a"/>
                </a:solidFill>
                <a:latin typeface="Comic Sans MS"/>
              </a:rPr>
              <a:t>рипадност социјалној класи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ј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2a3d7a"/>
                </a:solidFill>
                <a:latin typeface="Comic Sans MS"/>
              </a:rPr>
              <a:t>значајна за здравље и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sr-CS" sz="2000" spc="-1" strike="noStrike">
                <a:solidFill>
                  <a:srgbClr val="2a3d7a"/>
                </a:solidFill>
                <a:latin typeface="Comic Sans MS"/>
              </a:rPr>
              <a:t>смртност од одређених болести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(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Блеков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извештај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,1980)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5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Утврђено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ј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д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CS" sz="2000" spc="-1" strike="noStrike">
                <a:solidFill>
                  <a:srgbClr val="2a3d7a"/>
                </a:solidFill>
                <a:latin typeface="Comic Sans MS"/>
              </a:rPr>
              <a:t> Великој Британији постоје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sr-CS" sz="2000" spc="-1" strike="noStrike">
                <a:solidFill>
                  <a:srgbClr val="2a3d7a"/>
                </a:solidFill>
                <a:latin typeface="Comic Sans MS"/>
              </a:rPr>
              <a:t>неједнакости у здрављ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а</a:t>
            </a:r>
            <a:r>
              <a:rPr b="1" lang="sr-CS" sz="2000" spc="-1" strike="noStrike">
                <a:solidFill>
                  <a:srgbClr val="2a3d7a"/>
                </a:solidFill>
                <a:latin typeface="Comic Sans MS"/>
              </a:rPr>
              <a:t> сиромаштво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ј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2a3d7a"/>
                </a:solidFill>
                <a:latin typeface="Comic Sans MS"/>
              </a:rPr>
              <a:t>значајна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sr-CS" sz="2000" spc="-1" strike="noStrike">
                <a:solidFill>
                  <a:srgbClr val="2a3d7a"/>
                </a:solidFill>
                <a:latin typeface="Comic Sans MS"/>
              </a:rPr>
              <a:t>социјално-економска одредница здрављ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(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Ачисонов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извештај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, 1998)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5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Комисиј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з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социјалн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одредниц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здрављ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(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Финални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извештај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, 2008)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1628640"/>
            <a:ext cx="7775640" cy="49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СЗО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ј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2005.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годин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формирал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Комисиј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кој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астој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д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Чланов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Комисије;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артнерских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земаљ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„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мреж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знањ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“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заснованих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доказим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Цивилног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друштв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Глобалних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нституциј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187280" y="83664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Комисија за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социјалне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одреднице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здрављ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7" descr="Photo_3"/>
          <p:cNvPicPr/>
          <p:nvPr/>
        </p:nvPicPr>
        <p:blipFill>
          <a:blip r:embed="rId1"/>
          <a:stretch/>
        </p:blipFill>
        <p:spPr>
          <a:xfrm>
            <a:off x="4716360" y="2924280"/>
            <a:ext cx="4427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755640" y="1052640"/>
            <a:ext cx="7993080" cy="52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Комисија за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социјалне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одреднице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здрављ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Циљ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Комисије ј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д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јач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једнакост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здрављу;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Формулиш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провод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јавноздравствен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олитик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кој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ћ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агледат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ајзначајниј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оцијално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економск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дредниц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здравља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Акциј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усмерен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једнакост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здрављ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оцијално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економск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дредниц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здрављ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буд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држиве.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826920" y="1989000"/>
            <a:ext cx="8317080" cy="43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-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од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спитаник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кој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рипадај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ајсиромашнијем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квинтилу</a:t>
            </a: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, 28,1%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оцењуј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вој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дрављ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ка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лош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л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врл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лош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док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ј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7,6%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таквих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кој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рипадај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ајбогатијем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квинтилу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-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</a:t>
            </a: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воје здравље као лоше чешће процењују жене,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особе старије од 55 година, испитаници са основном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школом и нижим образовањем, они који припадају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најсиромашнијем квинтилу, као и испитаници који наводе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лоше услове становања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24000" y="90792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Испитивање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здравља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становника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Републике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Србије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, 2006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468360" y="1125360"/>
            <a:ext cx="83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8407"/>
                </a:solidFill>
                <a:latin typeface="Comic Sans MS"/>
              </a:rPr>
              <a:t>Дистрибуција испитаника према квинтилима материјалног стања домаћинств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692360" y="2133720"/>
          <a:ext cx="648000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648000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826920" y="2017800"/>
            <a:ext cx="831708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1996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2000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.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 2005. године 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„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страживања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вишеструких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оказатеља стања и положај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дец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жена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, ИИ и ИИ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“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 (МИЦС)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2002, 2003. и 2007. године 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„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тудиј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животном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тандард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тановник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рбиј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“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 (ЛСМС)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2000.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годин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„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дравствен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тањ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,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дравствене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отреб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коришћењ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дравствен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аштит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тановништв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рбиј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“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2006. године 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„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оцијална угроженост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Ром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збеглиц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нтерн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расељених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лиц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“,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УНДП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24000" y="907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Остала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испитивања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здравља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у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Србиј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468360" y="981000"/>
            <a:ext cx="80773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Одреднице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здрављ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a3d7a"/>
                </a:solidFill>
                <a:uFillTx/>
                <a:latin typeface="Comic Sans MS"/>
              </a:rPr>
              <a:t>Према СЗО подела</a:t>
            </a:r>
            <a:r>
              <a:rPr b="1" lang="sr-Latn-CS" sz="2400" spc="-1" strike="noStrike" u="sng">
                <a:solidFill>
                  <a:srgbClr val="2a3d7a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2a3d7a"/>
                </a:solidFill>
                <a:uFillTx/>
                <a:latin typeface="Comic Sans MS"/>
              </a:rPr>
              <a:t>н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Comic Sans MS"/>
              <a:buAutoNum type="arabi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аследн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Comic Sans MS"/>
              <a:buAutoNum type="arabi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Comic Sans MS"/>
              <a:buAutoNum type="arabi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рединск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2a3d7a"/>
              </a:buClr>
              <a:buSzPct val="70000"/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оцијално-економске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2a3d7a"/>
              </a:buClr>
              <a:buSzPct val="70000"/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2a3d7a"/>
              </a:buClr>
              <a:buSzPct val="70000"/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физичк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2a3d7a"/>
              </a:buClr>
              <a:buSzPct val="70000"/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2a3d7a"/>
              </a:buClr>
              <a:buSzPct val="70000"/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животн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тилови појединац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Picture 13" descr="ScreenHunter_2"/>
          <p:cNvPicPr/>
          <p:nvPr/>
        </p:nvPicPr>
        <p:blipFill>
          <a:blip r:embed="rId1"/>
          <a:stretch/>
        </p:blipFill>
        <p:spPr>
          <a:xfrm>
            <a:off x="4643280" y="2122560"/>
            <a:ext cx="44197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826920" y="1773360"/>
            <a:ext cx="7921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бухваћено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ј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1979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ромских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домаћинстава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Уочен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велик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еједнакост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морталитет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схран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бразовањ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змеђ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ромск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ромск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дец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мртност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ромск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дојчад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дец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до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5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годин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ј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ешто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виш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д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тр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ут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већ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д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ромск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топ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ромск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дец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кој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завршил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сновн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школ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ј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тр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ут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мањ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д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ромск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дец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24000" y="9079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МИЦС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68360" y="2060640"/>
            <a:ext cx="8496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ЛСМС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2007, 267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оцијалн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нтегрисаних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Рома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Ром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мај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начајн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иж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образовањ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иромашниј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начајн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ј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већ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број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езапослених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Ром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начајн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чешћ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роцењуј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вој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рављ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ка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лош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од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-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ромског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тановништв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(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жен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чешћ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оцијалн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-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економск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одредниц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осредуј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арцијалн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однос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змеђ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етничк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рипадност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дравља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24000" y="907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Неједнакости у самопроцени</a:t>
            </a:r>
            <a:r>
              <a:rPr b="1" lang="sr-Latn-CS" sz="32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d18407"/>
                </a:solidFill>
                <a:latin typeface="Comic Sans MS"/>
              </a:rPr>
              <a:t>здрављ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611280" y="2092320"/>
            <a:ext cx="597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Демографске, социјално-економск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 неједнакости</a:t>
            </a:r>
            <a:r>
              <a:rPr b="1" lang="sr-Latn-CS" sz="22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у здравственом стању 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кор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вим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аспектим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коришћењ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дравствен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лужб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рисутне с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рбији 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24000" y="765000"/>
            <a:ext cx="8820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Неједнакости у коришћењу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здравствене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службе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11280" y="3805200"/>
            <a:ext cx="611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Лекар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општ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ракс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/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медицин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рада, стоматолог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лекар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риватној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ракси</a:t>
            </a:r>
            <a:r>
              <a:rPr b="0" lang="sr-Latn-CS" sz="2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чешћ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осећивал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особ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женског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ола и они који су процењивали своје здравље као лоше, док</a:t>
            </a:r>
            <a:r>
              <a:rPr b="1" lang="sr-Latn-CS" sz="2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т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ређ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чинил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спитаниц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ижим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образовањем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иромашн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особе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2" name="Picture 7" descr="ScreenHunter_1"/>
          <p:cNvPicPr/>
          <p:nvPr/>
        </p:nvPicPr>
        <p:blipFill>
          <a:blip r:embed="rId1"/>
          <a:stretch/>
        </p:blipFill>
        <p:spPr>
          <a:xfrm>
            <a:off x="6516720" y="2637000"/>
            <a:ext cx="2549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24000" y="765000"/>
            <a:ext cx="8820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Неједнакости у коришћењу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здравствене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службе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11280" y="2062080"/>
            <a:ext cx="79930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оглед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учесталост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болничког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лечењ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остој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татистичк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значајн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разлик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о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ол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као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о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ндекс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благостањ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Болничко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лечењ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ј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брнутој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корелациј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амопроценом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здрављ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бразовањем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код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жен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спитаниц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кој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рипадај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иромашном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лој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тановништв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ређ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осећивал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лекар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пшт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ракс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томатолог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лекар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риватној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ракс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езависно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д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вог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здравственог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тањ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900000" y="6021360"/>
            <a:ext cx="76676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2a3d7a"/>
                </a:solidFill>
                <a:latin typeface="Comic Sans MS"/>
              </a:rPr>
              <a:t>Izvor: Jankovic J, Simic S, Marinkovic J. Inequalities that hurt: demographic, socio-economic and health status inequalities in the utilization of health services in Serbia. Eur J Public Health </a:t>
            </a:r>
            <a:r>
              <a:rPr b="1" lang="en-US" sz="1200" spc="-1" strike="noStrike">
                <a:solidFill>
                  <a:srgbClr val="2a3d7a"/>
                </a:solidFill>
                <a:latin typeface="Comic Sans MS"/>
              </a:rPr>
              <a:t>2010; 20(4):389-96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a3d7a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24000" y="9079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Неједнакости у оболевању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11280" y="1773360"/>
            <a:ext cx="5976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Демографск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оцијално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економск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еједнакост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болевањ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остој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рбиј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бразовањ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ндекс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благостањ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значајн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редиктор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здрављ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Жен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тариј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соб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тановниц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урбаних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асељ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мањ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бразован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иромашн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болесниј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дносно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мај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већ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вредност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морбидитетног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ндекс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900000" y="6021360"/>
            <a:ext cx="7667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2a3d7a"/>
                </a:solidFill>
                <a:latin typeface="Comic Sans MS"/>
              </a:rPr>
              <a:t>Izvor: </a:t>
            </a:r>
            <a:r>
              <a:rPr b="1" lang="en-US" sz="1200" spc="-1" strike="noStrike">
                <a:solidFill>
                  <a:srgbClr val="2a3d7a"/>
                </a:solidFill>
                <a:latin typeface="Comic Sans MS"/>
              </a:rPr>
              <a:t>Jankovic J, Marinkovic J, Simic S. Utility of data from a national health survey: Do</a:t>
            </a:r>
            <a:r>
              <a:rPr b="1" lang="sr-Latn-CS" sz="1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2a3d7a"/>
                </a:solidFill>
                <a:latin typeface="Comic Sans MS"/>
              </a:rPr>
              <a:t>socioeconomic inequalities in morbidity exist in Serbia? Scand J Public Health 2011; 39(3):230-8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1" name="Picture 6" descr="ScreenHunter_1"/>
          <p:cNvPicPr/>
          <p:nvPr/>
        </p:nvPicPr>
        <p:blipFill>
          <a:blip r:embed="rId1"/>
          <a:stretch/>
        </p:blipFill>
        <p:spPr>
          <a:xfrm>
            <a:off x="6348240" y="1916280"/>
            <a:ext cx="279576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468360" y="2133720"/>
            <a:ext cx="5904000" cy="49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Тр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главн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репорук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обољшањ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услов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вакодневног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живота;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мањењ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еправедн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расподел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моћ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овц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других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ресурс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Разумевањ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мерењ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оцијално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економских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еједнакост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здрављу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4" name="Picture 4" descr="Photo_1"/>
          <p:cNvPicPr/>
          <p:nvPr/>
        </p:nvPicPr>
        <p:blipFill>
          <a:blip r:embed="rId1"/>
          <a:stretch/>
        </p:blipFill>
        <p:spPr>
          <a:xfrm>
            <a:off x="6300720" y="2421000"/>
            <a:ext cx="2673360" cy="3789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1187280" y="98100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Извештај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Комисије за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социјалне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одреднице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здрављ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468360" y="1916280"/>
            <a:ext cx="8675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Р</a:t>
            </a: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азвој политика и стратегија које ће бити усмерене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	</a:t>
            </a: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на смањивање социјално-економских неједнакости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	</a:t>
            </a: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</a:t>
            </a: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дрављу</a:t>
            </a:r>
            <a:r>
              <a:rPr b="1" lang="sr-Latn-CS" sz="2200" spc="-1" strike="noStrike">
                <a:solidFill>
                  <a:srgbClr val="2a3d7a"/>
                </a:solidFill>
                <a:latin typeface="Times New Roman"/>
              </a:rPr>
              <a:t>;</a:t>
            </a:r>
            <a:r>
              <a:rPr b="1" lang="sr-CS" sz="22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</a:t>
            </a: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риоритет треба дати социјално-економским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одредни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-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ца</a:t>
            </a: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ма здрављ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(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доходак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апосленост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образовањ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тамбен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итањ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);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Требал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б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осебн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обратити пажњу на социјално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рањиве груп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(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Ром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дец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тар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особ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нвалидитетом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друг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маргинализован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груп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);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187280" y="981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Препоруке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468360" y="1916280"/>
            <a:ext cx="8496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Унапредити</a:t>
            </a:r>
            <a:r>
              <a:rPr b="1" lang="ru-RU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2a3d7a"/>
                </a:solidFill>
                <a:latin typeface="Comic Sans MS"/>
              </a:rPr>
              <a:t>з</a:t>
            </a:r>
            <a:r>
              <a:rPr b="1" lang="ru-RU" sz="2200" spc="-1" strike="noStrike">
                <a:solidFill>
                  <a:srgbClr val="2a3d7a"/>
                </a:solidFill>
                <a:latin typeface="Comic Sans MS"/>
              </a:rPr>
              <a:t>дравствени информациони систем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как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б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боље</a:t>
            </a:r>
            <a:r>
              <a:rPr b="1" lang="ru-RU" sz="2200" spc="-1" strike="noStrike">
                <a:solidFill>
                  <a:srgbClr val="2a3d7a"/>
                </a:solidFill>
                <a:latin typeface="Comic Sans MS"/>
              </a:rPr>
              <a:t> разуме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ли</a:t>
            </a:r>
            <a:r>
              <a:rPr b="1" lang="ru-RU" sz="2200" spc="-1" strike="noStrike">
                <a:solidFill>
                  <a:srgbClr val="2a3d7a"/>
                </a:solidFill>
                <a:latin typeface="Comic Sans MS"/>
              </a:rPr>
              <a:t> социјално-економск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е</a:t>
            </a:r>
            <a:r>
              <a:rPr b="1" lang="ru-RU" sz="2200" spc="-1" strike="noStrike">
                <a:solidFill>
                  <a:srgbClr val="2a3d7a"/>
                </a:solidFill>
                <a:latin typeface="Comic Sans MS"/>
              </a:rPr>
              <a:t> неједнакос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т</a:t>
            </a:r>
            <a:r>
              <a:rPr b="1" lang="ru-RU" sz="2200" spc="-1" strike="noStrike">
                <a:solidFill>
                  <a:srgbClr val="2a3d7a"/>
                </a:solidFill>
                <a:latin typeface="Comic Sans MS"/>
              </a:rPr>
              <a:t>и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	</a:t>
            </a:r>
            <a:r>
              <a:rPr b="1" lang="ru-RU" sz="2200" spc="-1" strike="noStrike">
                <a:solidFill>
                  <a:srgbClr val="2a3d7a"/>
                </a:solidFill>
                <a:latin typeface="Comic Sans MS"/>
              </a:rPr>
              <a:t>у здрављу и проце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или</a:t>
            </a:r>
            <a:r>
              <a:rPr b="1" lang="ru-RU" sz="2200" spc="-1" strike="noStrike">
                <a:solidFill>
                  <a:srgbClr val="2a3d7a"/>
                </a:solidFill>
                <a:latin typeface="Comic Sans MS"/>
              </a:rPr>
              <a:t> утицај предузетих акција за њихово смањење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187280" y="981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Препоруке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826920" y="907920"/>
            <a:ext cx="813780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Дефиниција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социјално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економских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одредница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здрављ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Социјалн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карактеристик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од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посебног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значај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з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 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живот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људи, имај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моћан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утицај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н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здрављ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(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Тарлов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1996)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Одређуј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степен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до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којег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особ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поседуј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физичк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социјалн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личн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ресурс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з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идентификациј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постизањ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личних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аспирациј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задовољавањ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потреб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суочавањ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с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средином (Рафаел, 2004)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Представљаљ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социјално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економско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стањ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којем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људи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жив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рад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(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Комисиј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з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социјалн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одреднице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2a3d7a"/>
                </a:solidFill>
                <a:latin typeface="Comic Sans MS"/>
              </a:rPr>
              <a:t>здравља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, 2005)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11280" y="981000"/>
            <a:ext cx="8076960" cy="54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Социјално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економске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одреднице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здрављ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редстављаљ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основн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узрочник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еједнакост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дрављу 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утич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дрављ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ојединац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аједнице током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живот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(Рафаел, 2004)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Можемо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х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осматрат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2a3d7a"/>
              </a:buClr>
              <a:buFont typeface="Comic Sans MS"/>
              <a:buChar char="-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a0000"/>
              </a:buClr>
              <a:buSzPct val="60000"/>
              <a:buFont typeface="Wingdings" charset="2"/>
              <a:buChar char="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ндивидуалном нивоу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a0000"/>
              </a:buClr>
              <a:buSzPct val="60000"/>
              <a:buFont typeface="Wingdings" charset="2"/>
              <a:buChar char="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иво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аједниц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a0000"/>
              </a:buClr>
              <a:buSzPct val="60000"/>
              <a:buFont typeface="Wingdings" charset="2"/>
              <a:buChar char="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ационалном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ивоу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470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Picture 4" descr="Photo_1"/>
          <p:cNvPicPr/>
          <p:nvPr/>
        </p:nvPicPr>
        <p:blipFill>
          <a:blip r:embed="rId1"/>
          <a:stretch/>
        </p:blipFill>
        <p:spPr>
          <a:xfrm>
            <a:off x="5514840" y="2637000"/>
            <a:ext cx="36291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971640" y="33336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Социјално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економске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одреднице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здрављ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образовањ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доходак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запосленост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незапосленост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оцијалн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татус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иромаштво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тамбено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итањ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услуг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здравствен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заштит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85928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500720" y="1916280"/>
            <a:ext cx="464328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оцијалн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одршк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оцијалн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скљученост</a:t>
            </a:r>
            <a:r>
              <a:rPr b="1" lang="sr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оцијалн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разлик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конзумирање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алкохола,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дуван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дрог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храна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транспорт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стре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рани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период</a:t>
            </a:r>
            <a:r>
              <a:rPr b="1" lang="sr-Latn-C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живот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828720" y="9158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18407"/>
                </a:solidFill>
                <a:latin typeface="Comic Sans MS"/>
              </a:rPr>
              <a:t>Dahlgren i Whitehead 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model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, 1991</a:t>
            </a:r>
            <a:r>
              <a:rPr b="1" lang="en-GB" sz="36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Picture 3" descr="Photo_1"/>
          <p:cNvPicPr/>
          <p:nvPr/>
        </p:nvPicPr>
        <p:blipFill>
          <a:blip r:embed="rId1"/>
          <a:stretch/>
        </p:blipFill>
        <p:spPr>
          <a:xfrm>
            <a:off x="1403280" y="1844640"/>
            <a:ext cx="6697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90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Brunner, Marmot 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 Wilkinson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model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3" descr="model 11 isecen fin"/>
          <p:cNvPicPr/>
          <p:nvPr/>
        </p:nvPicPr>
        <p:blipFill>
          <a:blip r:embed="rId1"/>
          <a:stretch/>
        </p:blipFill>
        <p:spPr>
          <a:xfrm>
            <a:off x="539640" y="1700280"/>
            <a:ext cx="8280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Здравље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и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богатство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838080" y="4929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d7a"/>
                </a:solidFill>
                <a:latin typeface="Comic Sans MS"/>
              </a:rPr>
              <a:t>Селекција или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d7a"/>
                </a:solidFill>
                <a:latin typeface="Comic Sans MS"/>
              </a:rPr>
              <a:t>узрочност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124080" y="3494160"/>
            <a:ext cx="2952720" cy="0"/>
          </a:xfrm>
          <a:prstGeom prst="line">
            <a:avLst/>
          </a:prstGeom>
          <a:ln w="254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Picture 7" descr="a_fruits_and_berries"/>
          <p:cNvPicPr/>
          <p:nvPr/>
        </p:nvPicPr>
        <p:blipFill>
          <a:blip r:embed="rId1"/>
          <a:stretch/>
        </p:blipFill>
        <p:spPr>
          <a:xfrm>
            <a:off x="611280" y="2571840"/>
            <a:ext cx="2305080" cy="185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bogatstvo"/>
          <p:cNvPicPr/>
          <p:nvPr/>
        </p:nvPicPr>
        <p:blipFill>
          <a:blip r:embed="rId2"/>
          <a:stretch/>
        </p:blipFill>
        <p:spPr>
          <a:xfrm>
            <a:off x="6227640" y="2498760"/>
            <a:ext cx="26654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826920" y="105264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Дефиниције неједнакости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у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18407"/>
                </a:solidFill>
                <a:latin typeface="Comic Sans MS"/>
              </a:rPr>
              <a:t>здрављу</a:t>
            </a:r>
            <a:r>
              <a:rPr b="1" lang="sr-Latn-CS" sz="3600" spc="-1" strike="noStrike">
                <a:solidFill>
                  <a:srgbClr val="d18407"/>
                </a:solidFill>
                <a:latin typeface="Comic Sans MS"/>
              </a:rPr>
              <a:t> (inequalities in health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788000" y="126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1" name="Picture 4" descr="Photo_1"/>
          <p:cNvPicPr/>
          <p:nvPr/>
        </p:nvPicPr>
        <p:blipFill>
          <a:blip r:embed="rId1"/>
          <a:stretch/>
        </p:blipFill>
        <p:spPr>
          <a:xfrm>
            <a:off x="6156360" y="2637000"/>
            <a:ext cx="2803320" cy="3600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684360" y="2852640"/>
            <a:ext cx="5329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Разлик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дрављ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кој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мож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  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збећ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,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кој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ј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еправедн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епоштен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(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Vajthed, 1990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);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Систематск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разлик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дрављ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груп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људ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ли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заједница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кој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имај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неједнак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позиције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   </a:t>
            </a:r>
            <a:r>
              <a:rPr b="1" lang="en-US" sz="2200" spc="-1" strike="noStrike">
                <a:solidFill>
                  <a:srgbClr val="2a3d7a"/>
                </a:solidFill>
                <a:latin typeface="Comic Sans MS"/>
              </a:rPr>
              <a:t>друштву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 (</a:t>
            </a:r>
            <a:r>
              <a:rPr b="1" lang="sr-Latn-CS" sz="2000" spc="-1" strike="noStrike">
                <a:solidFill>
                  <a:srgbClr val="2a3d7a"/>
                </a:solidFill>
                <a:latin typeface="Comic Sans MS"/>
              </a:rPr>
              <a:t>Graham, 2004</a:t>
            </a:r>
            <a:r>
              <a:rPr b="1" lang="sr-Latn-CS" sz="2200" spc="-1" strike="noStrike">
                <a:solidFill>
                  <a:srgbClr val="2a3d7a"/>
                </a:solidFill>
                <a:latin typeface="Comic Sans MS"/>
              </a:rPr>
              <a:t>).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08:22:41Z</dcterms:created>
  <dc:creator>Unknown User</dc:creator>
  <dc:description/>
  <dc:language>en-US</dc:language>
  <cp:lastModifiedBy>korisnik</cp:lastModifiedBy>
  <dcterms:modified xsi:type="dcterms:W3CDTF">2018-02-02T07:34:09Z</dcterms:modified>
  <cp:revision>712</cp:revision>
  <dc:subject/>
  <dc:title>KAKO NAPISATI NAUČNU PUBLIKACIJU</dc:title>
</cp:coreProperties>
</file>